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376B-5501-4A80-A806-7A63D8BF4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4204-AC6F-4E97-9158-91D32BEC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09F3A-675C-4E98-8E05-6E312DBC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D33F6-40DC-4BC1-B0E2-CA901C5A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53633-78BB-48AA-86A6-3B8A7BDA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8E234B-87C1-4E8C-890C-903C53EF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94100-98CF-4228-9C06-D7754B49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2885D-0B36-4E62-8F48-3ECCA8F1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82BA5-B959-4446-AF8D-0CFB971D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995AC-4709-488E-8130-F0D703640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AF9EF-EA1E-480B-BFB1-A75C37BD4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CB0AE-0C0C-40D5-85D6-AF46DE08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52EC-E143-4772-8FA6-AF65CA378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7377B-51BF-4DDE-B77A-6FE09650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B6C289-FBB3-43BF-AC48-B0062BFE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60EFD-C102-46CC-8EC5-4AC9BA7A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B14A1-1A9D-4A30-83B5-F56CCB95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6474D8-2F71-4126-8D2E-F98AAB50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FA338-3004-414D-8B7A-F2BC1EE7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7C932-F60C-46FD-94D6-F57A3D0C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32DBE-F051-46EC-844D-F5C19775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50CC96-03CF-4964-97E6-4028050F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DEC97-D904-4759-82C2-A6AEFF8C6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B548-2064-4E61-9F78-51CDD8E60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5300B-616C-4504-ABAC-AB822A3C9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4D444-8BF9-4188-B0C9-947436C7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24598-D5ED-4C76-9600-76BA5748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73E74-0F1A-4C5D-8E41-506E246B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EED00-5643-48B4-B8DA-28715757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D903A-4BCD-428E-9C37-0F3874D6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981AF-D79C-4646-8214-5C28B52D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25474-4A8C-40BE-8F0A-27BBE32B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B519D-9D16-4289-84C1-6704436D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FA2FC-7D02-4FDE-B322-9B3CBCA7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25A8-2AE2-4467-984F-36AB83B6E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4C5A4-9615-4FB6-9A9E-35C7F502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2F7BA-13BF-4BD0-94C5-DA3786D8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C0335-7CCC-41BB-A03B-EC8632455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81129-A807-41FB-934E-0F21F79E9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33422D-AFDA-4FB9-A43E-FC5A8AD9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2E40CB-B805-40B4-A26D-0E9D076A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DAA6AB-E9DF-4666-874F-57E47525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7F47D-BAF0-42DD-8AEA-54DF63C8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BE7E6-EB60-4960-99A3-0824082E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A1230F-A9DE-4B19-9FF5-2C9FD6B2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3ED9-B787-42A0-BB81-E959B7A9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76F28-B42F-4E91-95D1-0DCBE68A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9E9CB2-F0A9-44D9-B26C-678A3D94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5875BE-7A13-4D6D-B3CE-281487F4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825EF-79DC-447C-B4D8-4206588C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1E45B8-D172-49F6-9DFA-99FD9A3C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21E581-7E0F-414D-83BB-BE29FB94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2EE14C-B824-415F-B89B-391DE52E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FBAFF0-5E87-435B-A766-1498E638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C701BD-F0EF-40A1-9C68-DC56DFE5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5A5C20-4D5C-42DA-993B-B25C7AED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DF88-90DC-4182-860C-53AA2B18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9C6AF5-3ACB-4E5A-B152-C9D72EE5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42BE92-D39A-42BB-BABA-D67FB9FE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B6AD01-9BE1-4A98-B024-62299C5D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68A65C-FF09-4165-B01D-CC32C0F6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FF890D-30D5-4EC6-AA26-3ACA4599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57BCC5-5525-46FC-B1D2-93798EF2B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8AFC37-2DCA-42E9-8741-46CD51631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02B360-CEAC-4B6E-A8BE-A3A680E1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C127DD-613A-4B65-B634-55AD8ACA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4AEC47-51BA-4D87-881D-5CD60A58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7E4B-2297-47E0-90A8-CCE92B26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8BDCA0-9069-4659-B5A3-0D2ECAE7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5E07C4-401B-4A2D-8184-AEF2EA73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3A031C-7D3A-4155-8B77-5A305EEE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372631-116F-4CAD-9932-7BCD28BE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E3921B-F95E-48DC-AF38-78D62272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B80AC7-FC43-460C-B61B-0B30A316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7155D4-26BF-4EEF-92E0-5891DECC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BF332F-0FCB-4F93-8B4D-B84581FD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B3CA52-38E9-4BF4-9E94-ED196F64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CCF699-01F5-473E-9660-248A29F2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F09C-2E5E-41B9-8BFF-9C399A83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6E5143-3CA9-48E1-94DC-70A6C2A6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702622-09DE-4032-8609-CD07B3BD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2F6E1A-5918-4E72-9240-0EB191B5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86FD28-20BB-48CD-BB44-1F9127CD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4D2725-C301-4638-91FC-FA04599E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85904B-A0E2-46EB-98A9-6667F43E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3E0613-894D-4052-9D31-32DB793F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62D484-4415-4EDA-9418-28AD5E70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98E80F-6AE0-4018-AC2C-44B127FC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856C85-63EB-480C-82FB-2B66F9B30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AA26-A82D-40D4-8CDD-402F9F4C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05AAF5-F9C6-4395-8FE6-2B815883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02D816-333E-4B66-8C54-DD8292BE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607309-414D-4D16-867F-D77C167E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82359B-66F2-4B3C-88F6-DAB2D960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1A45ED-E1E7-4604-9780-DD2F4924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6B41F2-09DB-4C34-8FA7-C0DF69E8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157B2D-30B2-4BD5-B7E6-0E1A2C2B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DDB844-122D-400E-A462-E07E8B8D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4D3847-CF34-4394-AE6A-D6407548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D1DC6C-9D82-4C14-A3B5-166D44C7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7C7C-10FF-4E28-8928-395A8A16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47FCF2-276C-43B8-93B7-0A102004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728631-58C3-4F41-9D9F-022B7AA0C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CEE253-1EA4-423D-8E4E-DDBFFCCCC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9E555D-C4AA-4AA6-BD4B-50B63FC1E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07473C-E7EC-44C9-99D7-B0A67FD3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559532-459C-48D6-B4A7-A570E2AD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441E6C-641C-4C57-BEDA-670B7F86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9D0CB9-18DB-454C-8918-D3D05F14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0F2890-7A67-4487-88EE-7B3531CC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A67349-7760-489B-8909-7F1A9729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8FA6-025F-43FC-8783-E8B89393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CE7A-2ADC-43C2-BBDA-76EBFC98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0E4C15-12BC-413A-9F6A-2732A17D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72D3C5-5D68-41FF-BAA3-D390C8B4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F2D141-B370-4894-9CA1-8A7888B3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B09AD3-7EE8-455B-A8FB-22C026B24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5CC12C-57D7-49B1-BDC0-F862F0C9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752433-A2A9-4C06-A318-C1CD458B6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BF13F9-CF7A-4DEA-A09D-3CBD23D8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42C6BB-0F37-4DE2-9C89-FB7B8E2B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F71036-5E1B-49FB-90FA-F04A9025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12F1C1-2424-4DB7-B7C1-E3D7109D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CF0D-15DF-4D0C-8BB5-6E5166D7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0C1563-9281-448C-AD48-D78458CF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BECD37-7A47-46BE-A192-C9254EF9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242598-992A-4FEF-A949-A3B771AB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F27283-8C4F-4403-88D3-8B9794DC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0F1CCA-DD79-4522-A18B-A0B5ACCD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F56E75-ED38-4B28-B3CA-AC06B8BB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B7B9BB-C319-4106-BD44-1E3F02D67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815ABC-3F83-400F-AA31-A198991C6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56ECCE-676D-4B64-91FA-63EBAF6A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EBEBD9-AFC1-42A7-8626-4E068865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4B0D-774F-4235-A2AE-7C4EA08C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25B059-2D2A-4171-A328-F33D3B1F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4A3457-4056-4830-90C1-58E3E39F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AB3BE3-6C46-4666-9E89-6330DF4E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759540-4A68-493B-8DCD-8B64D0E5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00EE59-7DF3-4A5A-AB2D-664F3E8E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367C03-3D12-4651-BF69-A6A5D9FD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4C023C-FA48-41D6-99BD-E7C4B732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6B37F3-D9DD-4F05-8D54-FBD3C44CE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31A5D3-71D8-4EB5-B716-4268BB24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D86A6C-FFDD-411F-960B-85C3DE654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45EC-7976-470F-8B14-22A33AA8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391B44-27DC-43DB-896E-8FC17E7A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33F7CE-9901-40C9-9635-79495582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E5C70F-EF34-436E-8176-CF3538F1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C018F8-4A97-43E0-AB04-F1B2080F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6C5F9C-93EA-430D-9CB4-D1D17E82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6189F1-2A53-47A6-940D-AA5DF5F6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A1092E-B15B-404B-A26B-71956D1A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E57F59-8E02-44B4-A1C2-A4BA3B2D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F8BEC2-1170-4CFA-A187-8B0D5EF3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0C429C-FE1A-4A21-A0A9-57EF97685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FDA2-35C5-4292-9988-6EAB56B73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CF28A9-52C4-4147-8997-8D54EB134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1DF853-FD58-4EE4-AC5E-5FEA81751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5DC645-BD67-4D22-B50E-C28A5594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136933-4CDD-48E6-A0E0-F86E1EDF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055392-CDB0-4102-9108-5FFFCC5E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068203-DCEA-4C44-9CC5-06F5B8FE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E59FB4-FDB8-44D5-935F-1AE0603A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EB026C-CBD8-402F-A476-86FBDC9D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D83B58-4B88-4927-BF67-6896DD8F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91CD3E-5965-4EDE-9D62-F150CBFE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5EE9B-D456-45AF-9272-718F49F5F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8FF8EB-60A9-47FC-808F-BE5E649E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4C38E1-EE44-4603-A220-929F947C1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A6907E-272D-4FE8-8AFD-79F39231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03827-7835-4653-8BD5-2D280E95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57EEA-2064-4073-A545-936FBA93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DE9DB-4E30-4C5E-BAF7-A83FA720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6302D-6BC0-4B90-91AC-8A66A848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B691-8476-4A37-8AAC-95E342CA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3B730-C986-4E7B-BCC7-D545A35B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CF1E5-EDE2-4558-AED0-FB6D87CE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D4166-21A7-49A4-B699-22886B7C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CF914-350B-44D9-BED8-68CA1727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0C3A8-7C10-4B76-880C-32140484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0107A-C93E-4B3A-943B-AC8E0116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958A6-23F7-4386-9A70-2318C48A2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57B9B-7E1B-4D6C-A6C9-A4A93A50C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D5591-01CE-4F92-8EFA-967FA414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7C87F-1C38-4397-9223-42AA7CB9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F047-DFD9-4812-8B3E-6EC6D714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EAD18-222D-4316-8503-C60E84B3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EB8EF-4A3B-485B-98FC-8383731F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B6DF8-4209-4F2A-B1FC-454636A7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B1CAD-0227-4C61-97F8-CD0094A4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8FFE2-17C9-4D50-9844-28121D94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30193-B60E-4CDA-BA58-AF9218BF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C1749-D3E7-4755-BB17-5DAB0573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E8E29-D1CC-4453-A166-506219DED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BCD48-3BD3-449D-A599-8B880063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AA516-6FF0-4A93-AB90-6F4B9085D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D873-5E6E-4F8A-A564-23BC8CB9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3ED4D-F256-4B64-A07B-458568CE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7E636-3D1E-4567-AA75-78E4EF3C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C0FB9-9827-4D66-B0AB-D58A183D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2BCD6-27AC-4CAE-BA13-19C12C0B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87FE9-DCED-417E-8A48-137E5B63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1F203-228D-4271-82D0-8C38680D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F258D-2878-4A46-BD4C-ACEAABC2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07D40-D1DC-4A49-BAFB-646EA3A7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B0CB9-8732-4CFE-90A6-6666FC3A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152CB-98EC-4C5A-A5AE-8147224E0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6B5A-1A0C-4B1A-91A1-18D59D98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D7396-B892-4DD9-A2FD-73BE5D9F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998E6-18EB-4E9B-BB3D-63D028B9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E2D15-AE9A-4D83-B29F-07D5C972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43E7E-859E-4450-B5BA-7C147C75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07B97-E6E2-4550-B8EA-86651894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A9206-D799-4B35-A2C4-D9864088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8E44E-0EBE-4BB3-9ED0-AF74884C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0EC7F-D06F-43D6-8776-8C42D980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07BF6-66BC-484B-B6B7-B3C60CBF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515EA-81C5-46C4-BCF9-83A62792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5AE4-2345-4A64-8795-38C20BBF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E1DA1-34E4-4DCB-AD9F-C8694123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EACCF-6763-420B-8729-D0365FF30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1AD08-9E85-4BD6-9D80-88DEBADCB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A1518-F4C5-4E6A-9152-DD0D31305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FFCF2-9478-4DF2-8214-A7936AFE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F015E-FC01-4587-98C5-989EE0DC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DECCF-56E6-43A2-8C4E-30927722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66A8E-E5E5-4BCA-B93D-8F24AA5F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B991A-C643-46D3-A5C0-2E0F8DC1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3CE28-C2B2-41A2-A636-58EED0DF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2647-8415-4EA8-AF5E-C70C567B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60AA9-E0B9-45B5-AFBC-F5FBDE36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3F803-2AE0-4585-A174-EEA9EFA6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1C661-0368-4CF9-971D-D670C51B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99F6B-48BF-4251-A351-10B05D701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FF191-1B6E-45E2-A4A1-18978AD8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74545-3772-45C2-ADE0-3EB19E2DE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AB08D-A1E7-4BE0-B92A-29CCD00A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77F38-9293-4BD6-B596-60D95302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23DC5-E97A-46CF-B0D5-E73F5A36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F40E7-DF87-49EB-BE4E-2F44988D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AC85-A4F5-453F-A9F2-FAA70422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27C58-C049-4C29-9028-36271C29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8B107-341F-4EF5-B8E9-53EB6DD7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BA430-5F31-4ED1-A207-D09AE590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E825D-F672-4D81-9BB1-CE4D4257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C3B9E-CA85-44B3-AA02-80D01184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32688-D7F5-42DF-8E38-6F93CB6D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0B0A4-F0DC-47F8-AA2D-8EC16F10E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F686B-7DA6-49F4-B89A-283E9745C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22A3E-860E-4197-8BD7-E6518AC0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67E07-C4BF-4407-A409-6F6F7ADB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B4F3-0C53-4AEA-A0CE-5CF1F7435C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2D4D-660B-41A4-9E2B-0391B83EFD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9D37-A7EC-4075-A0E3-8FC75D33C2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B0B3-194E-4183-8154-492F50FCEA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4D65-0DE1-47DD-832C-479B4879FC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8869-8A62-48D0-807B-D217108B26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6C68-3190-41C5-B242-E4F8CCBBFD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10AA-65B9-4B38-BE33-33644D1E86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F410-FB3D-4894-BA2E-10DE3B247D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832C-E487-45E1-AB8F-36FCBA7AB1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5722-5C33-4BC6-AE05-452932301F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DC83-562E-4270-B3B8-AC6C5D1894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7AB2-9944-45C0-9555-44E107300A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AB8E-B208-49EA-9438-175DDAA670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8122-B949-434F-B77D-5DE404F7D6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849C-5912-4CD4-BF67-99A4BBB436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DCB9-9DD9-4B57-96DA-FC7F669A41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57CC-1B4E-4D42-BD60-68E5E4B00C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1CAF-9427-445A-BAEA-E0BFD7F8ED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7E5E-A5F7-402C-8629-5E71ADF009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4190-5A74-418F-AA8A-49F58DABBA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6244-FE77-4DC8-9D45-59644E53FE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170F-F6A1-49BF-B4C4-4F2EA388BA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0653-EC01-4EF9-969F-9932C4F7E0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9326-DC50-44A7-9000-AC51E20EC4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B639-ECF7-4E7B-ADB7-194B7843F7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478F-8931-47C4-A721-CF1FDCD59A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D75E-9B02-4DAF-9519-6A2825A635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9981-1BC1-479B-8B89-ECE3780826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B145-99E5-430F-BE44-E8BF92F4AB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B790-D0F7-4900-95B0-C7EE139848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2810-E16A-44F1-BA6E-5023F178C9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23B1-03C2-47E8-91E3-5A622B348A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3214-5396-44E9-BD1D-9AE933A7FA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CC05-B03F-4F86-961F-229574CE0F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23C8-F32E-4BFF-A69A-6EDD70951F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0636-B3B9-43A9-A113-C26AD45B86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5B66-1A88-4A5F-81DD-DAE5207EEF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C059-51EF-4942-9077-B4EB4B6452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FDA7-AB17-45B2-911C-CF6799E933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25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3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3.png"/><Relationship Id="rId3" Type="http://schemas.openxmlformats.org/officeDocument/2006/relationships/image" Target="../media/image34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3.png"/><Relationship Id="rId3" Type="http://schemas.openxmlformats.org/officeDocument/2006/relationships/image" Target="../media/image36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206280" y="3054240"/>
            <a:ext cx="8542440" cy="8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图片 69633" descr=""/>
          <p:cNvPicPr/>
          <p:nvPr/>
        </p:nvPicPr>
        <p:blipFill>
          <a:blip r:embed="rId1"/>
          <a:stretch/>
        </p:blipFill>
        <p:spPr>
          <a:xfrm>
            <a:off x="200160" y="833400"/>
            <a:ext cx="8743680" cy="56199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5724360" y="1197000"/>
            <a:ext cx="863640" cy="382680"/>
          </a:xfrm>
          <a:prstGeom prst="rect">
            <a:avLst/>
          </a:prstGeom>
          <a:ln w="0">
            <a:noFill/>
          </a:ln>
        </p:spPr>
      </p:pic>
      <p:pic>
        <p:nvPicPr>
          <p:cNvPr id="1055" name="图片 69635" descr=""/>
          <p:cNvPicPr/>
          <p:nvPr/>
        </p:nvPicPr>
        <p:blipFill>
          <a:blip r:embed="rId3"/>
          <a:stretch/>
        </p:blipFill>
        <p:spPr>
          <a:xfrm>
            <a:off x="5392800" y="2333520"/>
            <a:ext cx="2047680" cy="19051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4"/>
          <a:stretch/>
        </p:blipFill>
        <p:spPr>
          <a:xfrm>
            <a:off x="324000" y="5573880"/>
            <a:ext cx="8640720" cy="3823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5"/>
          <a:stretch/>
        </p:blipFill>
        <p:spPr>
          <a:xfrm>
            <a:off x="250920" y="6021360"/>
            <a:ext cx="8640720" cy="3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图片 68609" descr=""/>
          <p:cNvPicPr/>
          <p:nvPr/>
        </p:nvPicPr>
        <p:blipFill>
          <a:blip r:embed="rId1"/>
          <a:stretch/>
        </p:blipFill>
        <p:spPr>
          <a:xfrm>
            <a:off x="223920" y="828720"/>
            <a:ext cx="8696160" cy="555300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2"/>
          <a:stretch/>
        </p:blipFill>
        <p:spPr>
          <a:xfrm>
            <a:off x="7956720" y="3284640"/>
            <a:ext cx="53316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图片 67585" descr=""/>
          <p:cNvPicPr/>
          <p:nvPr/>
        </p:nvPicPr>
        <p:blipFill>
          <a:blip r:embed="rId1"/>
          <a:stretch/>
        </p:blipFill>
        <p:spPr>
          <a:xfrm>
            <a:off x="200160" y="1419120"/>
            <a:ext cx="8743680" cy="401976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2"/>
          <a:stretch/>
        </p:blipFill>
        <p:spPr>
          <a:xfrm>
            <a:off x="7927920" y="3213000"/>
            <a:ext cx="53352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图片 66561" descr=""/>
          <p:cNvPicPr/>
          <p:nvPr/>
        </p:nvPicPr>
        <p:blipFill>
          <a:blip r:embed="rId1"/>
          <a:stretch/>
        </p:blipFill>
        <p:spPr>
          <a:xfrm>
            <a:off x="133200" y="1052640"/>
            <a:ext cx="8877600" cy="47527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2"/>
          <a:stretch/>
        </p:blipFill>
        <p:spPr>
          <a:xfrm>
            <a:off x="5292720" y="4076640"/>
            <a:ext cx="53352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图片 65543" descr=""/>
          <p:cNvPicPr/>
          <p:nvPr/>
        </p:nvPicPr>
        <p:blipFill>
          <a:blip r:embed="rId1"/>
          <a:stretch/>
        </p:blipFill>
        <p:spPr>
          <a:xfrm>
            <a:off x="290520" y="144360"/>
            <a:ext cx="8242200" cy="665640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2"/>
          <a:stretch/>
        </p:blipFill>
        <p:spPr>
          <a:xfrm>
            <a:off x="684360" y="4581360"/>
            <a:ext cx="8172360" cy="473400"/>
          </a:xfrm>
          <a:prstGeom prst="rect">
            <a:avLst/>
          </a:prstGeom>
          <a:ln w="0">
            <a:noFill/>
          </a:ln>
        </p:spPr>
      </p:pic>
      <p:pic>
        <p:nvPicPr>
          <p:cNvPr id="1066" name="图片 65540" descr=""/>
          <p:cNvPicPr/>
          <p:nvPr/>
        </p:nvPicPr>
        <p:blipFill>
          <a:blip r:embed="rId3"/>
          <a:stretch/>
        </p:blipFill>
        <p:spPr>
          <a:xfrm>
            <a:off x="1590840" y="692280"/>
            <a:ext cx="3097080" cy="2065320"/>
          </a:xfrm>
          <a:prstGeom prst="rect">
            <a:avLst/>
          </a:prstGeom>
          <a:ln w="0">
            <a:noFill/>
          </a:ln>
        </p:spPr>
      </p:pic>
      <p:pic>
        <p:nvPicPr>
          <p:cNvPr id="1067" name="图片 65541" descr=""/>
          <p:cNvPicPr/>
          <p:nvPr/>
        </p:nvPicPr>
        <p:blipFill>
          <a:blip r:embed="rId4"/>
          <a:stretch/>
        </p:blipFill>
        <p:spPr>
          <a:xfrm>
            <a:off x="4932360" y="749160"/>
            <a:ext cx="2754360" cy="197640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5"/>
          <a:stretch/>
        </p:blipFill>
        <p:spPr>
          <a:xfrm>
            <a:off x="611280" y="5214960"/>
            <a:ext cx="8172360" cy="47304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6"/>
          <a:stretch/>
        </p:blipFill>
        <p:spPr>
          <a:xfrm>
            <a:off x="684360" y="5708520"/>
            <a:ext cx="8172360" cy="47304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7"/>
          <a:stretch/>
        </p:blipFill>
        <p:spPr>
          <a:xfrm>
            <a:off x="611280" y="6342120"/>
            <a:ext cx="817236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图片 76801" descr=""/>
          <p:cNvPicPr/>
          <p:nvPr/>
        </p:nvPicPr>
        <p:blipFill>
          <a:blip r:embed="rId1"/>
          <a:stretch/>
        </p:blipFill>
        <p:spPr>
          <a:xfrm>
            <a:off x="247680" y="1976400"/>
            <a:ext cx="86486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图片 62465" descr=""/>
          <p:cNvPicPr/>
          <p:nvPr/>
        </p:nvPicPr>
        <p:blipFill>
          <a:blip r:embed="rId1"/>
          <a:stretch/>
        </p:blipFill>
        <p:spPr>
          <a:xfrm>
            <a:off x="457200" y="766800"/>
            <a:ext cx="8229600" cy="532440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2"/>
          <a:stretch/>
        </p:blipFill>
        <p:spPr>
          <a:xfrm>
            <a:off x="611280" y="1887480"/>
            <a:ext cx="1584360" cy="473040"/>
          </a:xfrm>
          <a:prstGeom prst="rect">
            <a:avLst/>
          </a:prstGeom>
          <a:ln w="0">
            <a:noFill/>
          </a:ln>
        </p:spPr>
      </p:pic>
      <p:grpSp>
        <p:nvGrpSpPr>
          <p:cNvPr id="1074" name="组合 62470"/>
          <p:cNvGrpSpPr/>
          <p:nvPr/>
        </p:nvGrpSpPr>
        <p:grpSpPr>
          <a:xfrm>
            <a:off x="5219640" y="1844640"/>
            <a:ext cx="3529080" cy="2754360"/>
            <a:chOff x="5219640" y="1844640"/>
            <a:chExt cx="3529080" cy="2754360"/>
          </a:xfrm>
        </p:grpSpPr>
        <p:pic>
          <p:nvPicPr>
            <p:cNvPr id="1075" name="图片 62467" descr=""/>
            <p:cNvPicPr/>
            <p:nvPr/>
          </p:nvPicPr>
          <p:blipFill>
            <a:blip r:embed="rId3"/>
            <a:stretch/>
          </p:blipFill>
          <p:spPr>
            <a:xfrm>
              <a:off x="5219640" y="2389320"/>
              <a:ext cx="2867040" cy="22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1" descr=""/>
            <p:cNvPicPr/>
            <p:nvPr/>
          </p:nvPicPr>
          <p:blipFill>
            <a:blip r:embed="rId4"/>
            <a:stretch/>
          </p:blipFill>
          <p:spPr>
            <a:xfrm>
              <a:off x="5724360" y="1844640"/>
              <a:ext cx="158436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Picture 1" descr=""/>
            <p:cNvPicPr/>
            <p:nvPr/>
          </p:nvPicPr>
          <p:blipFill>
            <a:blip r:embed="rId5"/>
            <a:stretch/>
          </p:blipFill>
          <p:spPr>
            <a:xfrm>
              <a:off x="7885080" y="3645000"/>
              <a:ext cx="863640" cy="64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8" name="Picture 1" descr=""/>
          <p:cNvPicPr/>
          <p:nvPr/>
        </p:nvPicPr>
        <p:blipFill>
          <a:blip r:embed="rId6"/>
          <a:stretch/>
        </p:blipFill>
        <p:spPr>
          <a:xfrm>
            <a:off x="2195640" y="1916280"/>
            <a:ext cx="3024000" cy="47304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7"/>
          <a:stretch/>
        </p:blipFill>
        <p:spPr>
          <a:xfrm>
            <a:off x="539640" y="2492280"/>
            <a:ext cx="4753080" cy="47304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8"/>
          <a:stretch/>
        </p:blipFill>
        <p:spPr>
          <a:xfrm>
            <a:off x="468360" y="3068640"/>
            <a:ext cx="4753080" cy="47304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9"/>
          <a:stretch/>
        </p:blipFill>
        <p:spPr>
          <a:xfrm>
            <a:off x="539640" y="3645000"/>
            <a:ext cx="4753080" cy="47304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10"/>
          <a:stretch/>
        </p:blipFill>
        <p:spPr>
          <a:xfrm>
            <a:off x="468360" y="4221000"/>
            <a:ext cx="4753080" cy="47340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11"/>
          <a:stretch/>
        </p:blipFill>
        <p:spPr>
          <a:xfrm>
            <a:off x="539640" y="4869000"/>
            <a:ext cx="4753080" cy="47304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12"/>
          <a:stretch/>
        </p:blipFill>
        <p:spPr>
          <a:xfrm>
            <a:off x="468360" y="5416560"/>
            <a:ext cx="828036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5" name="图片 61441" descr=""/>
          <p:cNvPicPr/>
          <p:nvPr/>
        </p:nvPicPr>
        <p:blipFill>
          <a:blip r:embed="rId1"/>
          <a:stretch/>
        </p:blipFill>
        <p:spPr>
          <a:xfrm>
            <a:off x="142920" y="195120"/>
            <a:ext cx="8858160" cy="646776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2"/>
          <a:stretch/>
        </p:blipFill>
        <p:spPr>
          <a:xfrm>
            <a:off x="755640" y="3284640"/>
            <a:ext cx="4824360" cy="473040"/>
          </a:xfrm>
          <a:prstGeom prst="rect">
            <a:avLst/>
          </a:prstGeom>
          <a:ln w="0">
            <a:noFill/>
          </a:ln>
        </p:spPr>
      </p:pic>
      <p:grpSp>
        <p:nvGrpSpPr>
          <p:cNvPr id="1087" name="组合 61446"/>
          <p:cNvGrpSpPr/>
          <p:nvPr/>
        </p:nvGrpSpPr>
        <p:grpSpPr>
          <a:xfrm>
            <a:off x="5796000" y="3297240"/>
            <a:ext cx="3097080" cy="2044800"/>
            <a:chOff x="5796000" y="3297240"/>
            <a:chExt cx="3097080" cy="2044800"/>
          </a:xfrm>
        </p:grpSpPr>
        <p:pic>
          <p:nvPicPr>
            <p:cNvPr id="1088" name="图片 61443" descr=""/>
            <p:cNvPicPr/>
            <p:nvPr/>
          </p:nvPicPr>
          <p:blipFill>
            <a:blip r:embed="rId3"/>
            <a:stretch/>
          </p:blipFill>
          <p:spPr>
            <a:xfrm>
              <a:off x="5827680" y="3297240"/>
              <a:ext cx="2076480" cy="181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9" name="Picture 1" descr=""/>
            <p:cNvPicPr/>
            <p:nvPr/>
          </p:nvPicPr>
          <p:blipFill>
            <a:blip r:embed="rId4"/>
            <a:stretch/>
          </p:blipFill>
          <p:spPr>
            <a:xfrm>
              <a:off x="5796000" y="4869000"/>
              <a:ext cx="1584360" cy="4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0" name="Picture 1" descr=""/>
            <p:cNvPicPr/>
            <p:nvPr/>
          </p:nvPicPr>
          <p:blipFill>
            <a:blip r:embed="rId5"/>
            <a:stretch/>
          </p:blipFill>
          <p:spPr>
            <a:xfrm>
              <a:off x="7827840" y="3429000"/>
              <a:ext cx="1065240" cy="1079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1" name="Picture 1" descr=""/>
          <p:cNvPicPr/>
          <p:nvPr/>
        </p:nvPicPr>
        <p:blipFill>
          <a:blip r:embed="rId6"/>
          <a:stretch/>
        </p:blipFill>
        <p:spPr>
          <a:xfrm>
            <a:off x="755640" y="3832200"/>
            <a:ext cx="4824360" cy="47304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7"/>
          <a:stretch/>
        </p:blipFill>
        <p:spPr>
          <a:xfrm>
            <a:off x="826920" y="4451400"/>
            <a:ext cx="4824720" cy="47304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8"/>
          <a:stretch/>
        </p:blipFill>
        <p:spPr>
          <a:xfrm>
            <a:off x="826920" y="5027760"/>
            <a:ext cx="4824720" cy="47304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9"/>
          <a:stretch/>
        </p:blipFill>
        <p:spPr>
          <a:xfrm>
            <a:off x="826920" y="5589720"/>
            <a:ext cx="4824720" cy="47304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1" descr=""/>
          <p:cNvPicPr/>
          <p:nvPr/>
        </p:nvPicPr>
        <p:blipFill>
          <a:blip r:embed="rId10"/>
          <a:stretch/>
        </p:blipFill>
        <p:spPr>
          <a:xfrm>
            <a:off x="755640" y="6237360"/>
            <a:ext cx="482436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6" name="图片 70657" descr=""/>
          <p:cNvPicPr/>
          <p:nvPr/>
        </p:nvPicPr>
        <p:blipFill>
          <a:blip r:embed="rId1"/>
          <a:stretch/>
        </p:blipFill>
        <p:spPr>
          <a:xfrm>
            <a:off x="438120" y="1271520"/>
            <a:ext cx="8267760" cy="431496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1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4680000" cy="47304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1" descr=""/>
          <p:cNvPicPr/>
          <p:nvPr/>
        </p:nvPicPr>
        <p:blipFill>
          <a:blip r:embed="rId3"/>
          <a:stretch/>
        </p:blipFill>
        <p:spPr>
          <a:xfrm>
            <a:off x="611280" y="1930320"/>
            <a:ext cx="4680000" cy="47304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1" descr=""/>
          <p:cNvPicPr/>
          <p:nvPr/>
        </p:nvPicPr>
        <p:blipFill>
          <a:blip r:embed="rId4"/>
          <a:stretch/>
        </p:blipFill>
        <p:spPr>
          <a:xfrm>
            <a:off x="684360" y="2536920"/>
            <a:ext cx="5832360" cy="47304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1" descr=""/>
          <p:cNvPicPr/>
          <p:nvPr/>
        </p:nvPicPr>
        <p:blipFill>
          <a:blip r:embed="rId5"/>
          <a:stretch/>
        </p:blipFill>
        <p:spPr>
          <a:xfrm>
            <a:off x="539640" y="3083040"/>
            <a:ext cx="8136000" cy="47304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" descr=""/>
          <p:cNvPicPr/>
          <p:nvPr/>
        </p:nvPicPr>
        <p:blipFill>
          <a:blip r:embed="rId6"/>
          <a:stretch/>
        </p:blipFill>
        <p:spPr>
          <a:xfrm>
            <a:off x="539640" y="3673440"/>
            <a:ext cx="8136000" cy="47304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1" descr=""/>
          <p:cNvPicPr/>
          <p:nvPr/>
        </p:nvPicPr>
        <p:blipFill>
          <a:blip r:embed="rId7"/>
          <a:stretch/>
        </p:blipFill>
        <p:spPr>
          <a:xfrm>
            <a:off x="539640" y="4292640"/>
            <a:ext cx="8136000" cy="47304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1" descr=""/>
          <p:cNvPicPr/>
          <p:nvPr/>
        </p:nvPicPr>
        <p:blipFill>
          <a:blip r:embed="rId8"/>
          <a:stretch/>
        </p:blipFill>
        <p:spPr>
          <a:xfrm>
            <a:off x="468360" y="4883040"/>
            <a:ext cx="81360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0428" descr=""/>
          <p:cNvPicPr/>
          <p:nvPr/>
        </p:nvPicPr>
        <p:blipFill>
          <a:blip r:embed="rId1"/>
          <a:stretch/>
        </p:blipFill>
        <p:spPr>
          <a:xfrm>
            <a:off x="1581120" y="890640"/>
            <a:ext cx="5981760" cy="55627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6372360" y="2378160"/>
            <a:ext cx="1295280" cy="4730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5508720" y="3298680"/>
            <a:ext cx="1295280" cy="4734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2771640" y="5113440"/>
            <a:ext cx="24480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59410" descr=""/>
          <p:cNvPicPr/>
          <p:nvPr/>
        </p:nvPicPr>
        <p:blipFill>
          <a:blip r:embed="rId1"/>
          <a:stretch/>
        </p:blipFill>
        <p:spPr>
          <a:xfrm>
            <a:off x="1619280" y="871560"/>
            <a:ext cx="5905440" cy="5114880"/>
          </a:xfrm>
          <a:prstGeom prst="rect">
            <a:avLst/>
          </a:prstGeom>
          <a:ln w="0">
            <a:noFill/>
          </a:ln>
        </p:spPr>
      </p:pic>
      <p:grpSp>
        <p:nvGrpSpPr>
          <p:cNvPr id="1028" name="组合 59413"/>
          <p:cNvGrpSpPr/>
          <p:nvPr/>
        </p:nvGrpSpPr>
        <p:grpSpPr>
          <a:xfrm>
            <a:off x="2376360" y="3573360"/>
            <a:ext cx="4305600" cy="2560680"/>
            <a:chOff x="2376360" y="3573360"/>
            <a:chExt cx="4305600" cy="2560680"/>
          </a:xfrm>
        </p:grpSpPr>
        <p:pic>
          <p:nvPicPr>
            <p:cNvPr id="1029" name="图片 59411" descr=""/>
            <p:cNvPicPr/>
            <p:nvPr/>
          </p:nvPicPr>
          <p:blipFill>
            <a:blip r:embed="rId2"/>
            <a:stretch/>
          </p:blipFill>
          <p:spPr>
            <a:xfrm>
              <a:off x="2376360" y="3573360"/>
              <a:ext cx="4305600" cy="23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0" name="Picture 1" descr=""/>
            <p:cNvPicPr/>
            <p:nvPr/>
          </p:nvPicPr>
          <p:blipFill>
            <a:blip r:embed="rId3"/>
            <a:stretch/>
          </p:blipFill>
          <p:spPr>
            <a:xfrm>
              <a:off x="3635280" y="5661000"/>
              <a:ext cx="533520" cy="473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58373" descr=""/>
          <p:cNvPicPr/>
          <p:nvPr/>
        </p:nvPicPr>
        <p:blipFill>
          <a:blip r:embed="rId1"/>
          <a:stretch/>
        </p:blipFill>
        <p:spPr>
          <a:xfrm>
            <a:off x="1581120" y="947880"/>
            <a:ext cx="5981760" cy="49622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2"/>
          <a:stretch/>
        </p:blipFill>
        <p:spPr>
          <a:xfrm>
            <a:off x="3621240" y="3213000"/>
            <a:ext cx="4046400" cy="401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3"/>
          <a:stretch/>
        </p:blipFill>
        <p:spPr>
          <a:xfrm>
            <a:off x="1547640" y="3701880"/>
            <a:ext cx="6264360" cy="401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4"/>
          <a:stretch/>
        </p:blipFill>
        <p:spPr>
          <a:xfrm>
            <a:off x="1474920" y="4149720"/>
            <a:ext cx="2376360" cy="4017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5"/>
          <a:stretch/>
        </p:blipFill>
        <p:spPr>
          <a:xfrm>
            <a:off x="3938760" y="4105440"/>
            <a:ext cx="3728880" cy="4730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6"/>
          <a:stretch/>
        </p:blipFill>
        <p:spPr>
          <a:xfrm>
            <a:off x="1619280" y="4567320"/>
            <a:ext cx="2376360" cy="4014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7"/>
          <a:stretch/>
        </p:blipFill>
        <p:spPr>
          <a:xfrm>
            <a:off x="4067280" y="4537080"/>
            <a:ext cx="3728880" cy="4730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8"/>
          <a:stretch/>
        </p:blipFill>
        <p:spPr>
          <a:xfrm>
            <a:off x="1476360" y="5027760"/>
            <a:ext cx="6191280" cy="4014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9"/>
          <a:stretch/>
        </p:blipFill>
        <p:spPr>
          <a:xfrm>
            <a:off x="1476360" y="5516640"/>
            <a:ext cx="6191280" cy="40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57352" descr=""/>
          <p:cNvPicPr/>
          <p:nvPr/>
        </p:nvPicPr>
        <p:blipFill>
          <a:blip r:embed="rId1"/>
          <a:stretch/>
        </p:blipFill>
        <p:spPr>
          <a:xfrm>
            <a:off x="1623960" y="2567160"/>
            <a:ext cx="5896080" cy="172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图片 56324" descr=""/>
          <p:cNvPicPr/>
          <p:nvPr/>
        </p:nvPicPr>
        <p:blipFill>
          <a:blip r:embed="rId1"/>
          <a:stretch/>
        </p:blipFill>
        <p:spPr>
          <a:xfrm>
            <a:off x="1609560" y="763560"/>
            <a:ext cx="5924880" cy="59054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3592440" y="6165720"/>
            <a:ext cx="216072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3" name="组合 55302"/>
          <p:cNvGrpSpPr/>
          <p:nvPr/>
        </p:nvGrpSpPr>
        <p:grpSpPr>
          <a:xfrm>
            <a:off x="237960" y="1162080"/>
            <a:ext cx="8668080" cy="4859280"/>
            <a:chOff x="237960" y="1162080"/>
            <a:chExt cx="8668080" cy="4859280"/>
          </a:xfrm>
        </p:grpSpPr>
        <p:pic>
          <p:nvPicPr>
            <p:cNvPr id="1044" name="图片 55300" descr=""/>
            <p:cNvPicPr/>
            <p:nvPr/>
          </p:nvPicPr>
          <p:blipFill>
            <a:blip r:embed="rId1"/>
            <a:stretch/>
          </p:blipFill>
          <p:spPr>
            <a:xfrm>
              <a:off x="237960" y="1162080"/>
              <a:ext cx="8668080" cy="453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5" name="图片 55301" descr=""/>
            <p:cNvPicPr/>
            <p:nvPr/>
          </p:nvPicPr>
          <p:blipFill>
            <a:blip r:embed="rId2"/>
            <a:stretch/>
          </p:blipFill>
          <p:spPr>
            <a:xfrm>
              <a:off x="3822840" y="3500280"/>
              <a:ext cx="5041800" cy="252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8244000" y="2637000"/>
            <a:ext cx="431640" cy="38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54277" descr=""/>
          <p:cNvPicPr/>
          <p:nvPr/>
        </p:nvPicPr>
        <p:blipFill>
          <a:blip r:embed="rId1"/>
          <a:stretch/>
        </p:blipFill>
        <p:spPr>
          <a:xfrm>
            <a:off x="239760" y="115920"/>
            <a:ext cx="8724960" cy="4543560"/>
          </a:xfrm>
          <a:prstGeom prst="rect">
            <a:avLst/>
          </a:prstGeom>
          <a:ln w="0">
            <a:noFill/>
          </a:ln>
        </p:spPr>
      </p:pic>
      <p:pic>
        <p:nvPicPr>
          <p:cNvPr id="1048" name="图片 54278" descr=""/>
          <p:cNvPicPr/>
          <p:nvPr/>
        </p:nvPicPr>
        <p:blipFill>
          <a:blip r:embed="rId2"/>
          <a:stretch/>
        </p:blipFill>
        <p:spPr>
          <a:xfrm>
            <a:off x="1692360" y="4724280"/>
            <a:ext cx="5048280" cy="2076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8244000" y="907920"/>
            <a:ext cx="431640" cy="3826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4"/>
          <a:stretch/>
        </p:blipFill>
        <p:spPr>
          <a:xfrm>
            <a:off x="8317080" y="2608200"/>
            <a:ext cx="431640" cy="3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52231" descr=""/>
          <p:cNvPicPr/>
          <p:nvPr/>
        </p:nvPicPr>
        <p:blipFill>
          <a:blip r:embed="rId1"/>
          <a:stretch/>
        </p:blipFill>
        <p:spPr>
          <a:xfrm>
            <a:off x="228600" y="2023920"/>
            <a:ext cx="8686800" cy="28101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8215200" y="2859120"/>
            <a:ext cx="432000" cy="3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08:29:04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